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A29-4DA2-44C9-9552-FD629BC1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0633-4934-4D0A-8313-124CE28E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BF5-6CBC-4255-A73C-FB2F3855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ACB-EFEC-4B4B-853C-E24536F8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36E-2C16-4E76-9279-FB5F9E99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839-C07F-4EA7-BA14-B541D697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F12-6759-46CF-971C-317C6D4E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5B5-7692-40E1-8465-F3FC3491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DA5-39B1-4E71-9B8E-00E74A26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737-1890-461E-B38E-FD6A30CE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F29-B70E-4FDB-851B-225DA062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7AD-CE5B-40B0-B4E8-0FE4B4EE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E2FF-A3CD-4957-B493-DEDDB7B23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 Clase 6IM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29 de abril del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5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stas listo para la prueba del lu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- Complete with the correct form of SER or ES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eñora Roa_________ muy bon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rlos y Daniel _________ perez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 de Boliv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 en la clase de ing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química y la geometría________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uillermo _________una persona trabajad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liseo Nassau ____________ en Long I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__ nervioso por la prue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paso de Ser y Es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- What is the difference betwe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50120" y="1600200"/>
            <a:ext cx="71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Physical descriptions; traits; character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54440" y="1981080"/>
            <a:ext cx="84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Origin; to tell where someone or something is fr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53360" y="2362320"/>
            <a:ext cx="37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ell time; give a d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53360" y="2743200"/>
            <a:ext cx="39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indicate pose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52280" y="3062160"/>
            <a:ext cx="91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tell profession, nationality, religion, political affil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54080" y="3429000"/>
            <a:ext cx="75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tell where or when an event is taking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54440" y="3886200"/>
            <a:ext cx="57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tell what something is made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54080" y="4267080"/>
            <a:ext cx="35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For math equ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77400" y="5105520"/>
            <a:ext cx="39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express a cond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572360" y="5105520"/>
            <a:ext cx="37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identify a lo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7760" y="5486400"/>
            <a:ext cx="66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talk about certain weather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65880" y="5881680"/>
            <a:ext cx="59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indicate a change from the n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75600" y="6338880"/>
            <a:ext cx="83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 specify the special state or nature of somet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0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0 (1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SER/ESTAR Quiz on MON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0948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00:31:39Z</dcterms:created>
  <dc:creator>Helen Zumaeta</dc:creator>
  <dc:description/>
  <dc:language>en-US</dc:language>
  <cp:lastModifiedBy>Helen Zumaeta</cp:lastModifiedBy>
  <dcterms:modified xsi:type="dcterms:W3CDTF">2013-04-24T19:02:57Z</dcterms:modified>
  <cp:revision>16</cp:revision>
  <dc:subject/>
  <dc:title>Me llamo _________ Clase 7IM La fecha es el 29 de abril del 2011</dc:title>
</cp:coreProperties>
</file>